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2B16-C89F-4435-9934-3686679834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2D3B-5178-40F6-BF2F-5D462EB87C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E718-3473-4296-9A86-54FDD5E352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A3FD-3193-43F7-89E5-F1DB99F04D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0A95-6E7E-4880-A341-A034CF933A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5B2B-6B1C-4CCA-90A5-3BC661BF55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9360-A282-4666-8D86-9816C48AEE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F457-A24E-4F88-9372-86362C79D8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4E9-6AB1-4797-BC09-CF724BFE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5E4-5F6D-4CC8-B1F1-7B68D2D6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3F0-0785-432E-930A-2F400441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5D6-7B38-4AF9-AB2A-2DD303F2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4D4-D42B-4CB4-B9EF-C3DA31F8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5CA-18D3-44C1-B4E6-82BB54C8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9C1-1A05-4C89-8F21-64AF8C42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105-2FEC-402A-BE3E-F5546F9B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351-5160-4D04-87D5-6AD00621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6D0-40D6-4908-8C26-BCB00F9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E5B-E8BC-4AB5-9A4F-8A55499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348-24B3-4D14-A2E5-D9168B8A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D20E-A8DC-4408-BC24-DF72C29BF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ICE-BASED SYSTEM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TINDWA, DANNY COYNE, VICTOR AFARI-SEFA, BAKARI KAONEKA, GEORGE MHINA, SILVEST SAMALI, JONNE RODEN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2285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Vegetable production constrai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9066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ccess (e.g. quality see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harv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ce production 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1640" y="29066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eds (incl. wild r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(incl. birds)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vest &amp; post harvest lo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big five production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2052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ommunity-based seed and seedling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d cv’s, good quality and clean seeds, healthy seedlings, promotion of good planting methods (e.g. timing, land prepar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ntegrated crop manage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ming of operations, cropping sequences (rotations), labour-saving technologies,  small-mech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ter-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UE-enhancing technologies (e.g. drip irrigation, AWD/aerobic rice systems), water harvesting/ water conservation (e.g. bunding, ridg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arvest and post-harvest hand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 mechanization (e.g. harvesters, threshers), improved packaging, grading and standard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ark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rehouse receipt systems, farmer organizations to improve market access, farmer access to dedicated markets (avoiding trader’s and elevated prices), food quality and safety stand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3"/>
          <p:cNvSpPr/>
          <p:nvPr/>
        </p:nvSpPr>
        <p:spPr>
          <a:xfrm>
            <a:off x="-76320" y="7621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chnologies addressing major constraints using G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3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combination of technologies would potentially fit in this system (bearing constraints in mind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ess current situation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-an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mpact study, incl. biophysical constraint assessment: yield gap, diagnostic and base-line survey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fricaRice already developed surveys for th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Multi-Stakeholder Platform (MSP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s for stakeholder/farmer meetings to assess resources, constraints, needs and opportunities in terms of intensification &amp; diversific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… along the value chain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sensitization and training/awarenes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monstrations and evaluation of seed and seedling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-based demonstration trials on rice-vegetable(-livestock) integrated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ter management demo trial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zation: introduction, evalu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and adapt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variety evaluation (rice and vegetables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evaluating improved post harvest handling practices (e.g. packaging, processing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analyses and farmer evaluation exercises (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farmer groups and dedicated market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PART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’s: IITA, AfricaRice, AVRDC, IL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DO’s of Kilombero and Mvom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TI-Teng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RIN and Dakawa - 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COLLABO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FAK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ro deal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ed suppliers/compan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AT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mech Engineer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MARTE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F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 universities (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4:27Z</dcterms:modified>
  <cp:revision>32</cp:revision>
  <dc:subject/>
  <dc:title>What component technologies  would fit in this system?</dc:title>
</cp:coreProperties>
</file>